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media/image11.gif" ContentType="image/gif"/>
  <Override PartName="/ppt/media/image13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8C5C-DE22-4258-A468-C9AE6A14D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2406-1DE4-4254-88D0-4BFBC73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62BFEF-E3A1-4642-878F-E282C81C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369913-1B46-4DC5-9347-83BBBF79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39CFC-FC42-45D4-9138-8D6E6A2A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406748-2C23-4C8F-BC17-7D660403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E5538-11C6-4922-A1FD-C7B34B9A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5D54B-0803-4925-A8C3-56889207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C8427-F13D-4786-B7C7-C732FA7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8ECE5A-2BA5-4BA2-AA93-A16EE29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A75CF6-1C62-45DB-A77F-FB4C14B03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1603-353F-4486-90F1-2D2F23D10F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6FB8-69CE-4271-8A9E-606509D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77B5-48AF-4B2B-903B-23C8B0D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5AD97-A1AA-4566-8E62-448C0F9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40BB-9DBE-4557-AB9F-D9D5034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CD53-2F45-48AD-9F89-6C436083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460AF-922D-440A-9721-A107188D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CE926-3618-4C03-BB30-821E21E5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68F7-0961-41D6-A485-FE0EA37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D692-DD51-4214-80FC-033C8FB4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D154-3A2A-49E2-BF17-B2F6131D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DD99-173B-4EC0-BDC6-A60441D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B304-3272-4D19-BA56-BF7D1808B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03310-B3CB-4965-868C-CBB25AB8D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3F95E-8916-455B-9CDA-401C1F740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3D90A5-890C-4F93-AA9E-D557F6B5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FDAF1B-1684-4898-988B-C0B854A4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3C023-FA69-4308-87AC-642CE871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5BD21-DDA8-4CC0-95AA-6EB7589D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A5612-BC68-462A-9E38-5A8D029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8E954-F1AA-4F4A-8659-9F190C58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1512AD-9601-4A4B-9CFD-8E50AF3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490BD-2444-49AA-B21E-B1D4B4D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D3186-B3CD-4833-8ACF-3D5B4A2A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6BD17-FFE0-479F-AD35-041ADD2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43CD9-875A-496E-A8FA-D48EF297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E57CC-2B63-438C-8299-622C14BF4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70351-FC41-4269-8565-321C46BBE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9438E-6009-4E19-9F7A-4FB6151D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64467-BA7F-445A-A92B-2FF6E57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EAC08-0133-4ACE-B3F0-D1D0F70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51172-0334-40B9-A9F8-1C3C9CE5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439F9-963E-4E59-86DA-E09BF113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DC1DD-2C4C-4C71-B9E0-15B7AF0A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D0C3A-8975-4A0A-9DEE-0F034FB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5E29B-122E-4AD7-B2A0-EA978B47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3CD78-A66A-4B6A-899E-7507A214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8A78F-6B7B-4214-A5BD-1F482D6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5D7F3-1AA5-4338-B946-8F83C0A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D8A31-6A44-4B75-8CEC-3AD99BFA4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460B4-5FB0-45BA-87EB-9455170E4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F8B0D-38CE-45EE-A2E4-79B705D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3971B-9855-44EC-A03B-487C0129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6E584-2818-4EA4-9057-46AE6D6B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1FFD-B4A9-47AB-92C6-EE5B546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DC26-6B95-4F3A-8208-3BD26C13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4FE54-FF37-488B-B958-DF46FEA6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BC11D-1057-4974-9917-066ADEE2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A5BD9-918F-4DD4-AD63-72813118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0A1CD-CA23-40D8-B646-B7BA09E4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A686B-685B-4F46-8AB7-5EF51219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12981-0BC8-4912-8781-672ADCA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A9C9B-D700-4493-B5E7-2F2CB5DFB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66D46-9A20-4A24-ADD7-81452D2B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36BCE-462F-47D3-A561-0CB7472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9120E-1CEB-407B-B80E-FE0345A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315C0-B8BE-4213-AE8E-CBFE28E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30B6E-F83D-4107-984A-E30F1B0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4130-4FA3-4C72-8E7B-E3B5DF12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9EC55-D05E-4E16-B898-CC90F41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86750-D44E-41DE-BB01-D7B8814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FF593-4DB3-402E-8B9D-295EE556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EDFEA-E592-405E-BF9A-D2CAD8D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A18D4-E491-478C-BE90-667A7234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0391-8D80-4AB5-9C60-03B8ED96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7FDA4-2BAE-4F2F-B922-397FD0CD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7ED45-DF4A-4A6C-9055-DEB1C006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6C6DC-044C-4CF9-9AC6-6C75AC4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DF755-762A-4E9C-9DD1-B3415BD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2213B-5020-4EF8-B9A0-986EEA4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31E94-7647-4F89-827D-C7AD14CB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1BCEA-573D-41B6-AF13-2ECADE51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C7E19-8D6F-4018-8407-C4E30FDE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0990-FF9A-4265-AE6B-860D344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35A6-966B-44A7-8BFA-3291002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C7086-8045-4436-B289-AEC1527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5105E-97DF-4925-BC0B-77B42C6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837B-D1E0-4FA6-B23C-F1B9985F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8B9C3-DA84-4C74-B33B-8522F095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7D325-320A-44CC-99CA-BFD8DB5A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FADBC-65DB-4F8C-B992-C5FABC1F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97E6B-85C1-4E11-B26C-020FD18D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6F691-3516-4C2F-8A6A-7404CA11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91042-1FDC-4029-B4FE-B8F7ED2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1AFFF-AE20-41AE-AE98-C711A29F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16D45-DBA3-477E-B8F5-51A3533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56B81-2751-4247-A400-DCCD553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89B9-5315-4472-8582-8E65EBD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1E066-AACB-4CC0-9E45-B95D025D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3D1D6-6BF3-4731-80ED-FE0C9B5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29786-59E3-4383-8860-40E7ECEA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60FB-9B0B-4172-9C75-CBC5E167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02EFA-4B63-47C7-A636-53ACACFC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3983D-62D4-4C7C-840A-645448E8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4A6DE-CC25-4FF5-9EA0-60FFE51F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74CA3-55F2-42D8-8E6B-C17AB506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A7A18-C469-48E7-B524-AAE7FD8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BFB0B-4B5A-4A3E-B8B7-C568CE7B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D208D-18B9-489D-866C-E5A6276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F1148-D31D-4E09-9C8E-56870D2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EB5E-2A2F-4914-8773-98ECB807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90A1B-D000-4B2B-8B16-0CE1FF9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4D1AF-9468-4D9F-B43E-EE6C0A7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C5C5D-94A2-40C1-90B5-04248D8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9F9F3-7D99-41C0-8A41-F116C8F2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67E48-F35A-407C-AD31-85FB5A10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5EE85-49D7-4BF6-B938-96DE02D6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B2F04-C4F4-4706-BF35-0FC8A7FC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DAD5A-B80F-4E10-B64F-9291FE18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24A90-4F82-41B2-B437-E7AF0CF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AA9C0-D1A5-4ED4-B7AC-9CCC99E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932B5-FC8C-448C-BABA-BA561256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23572-F36E-4E5F-833D-9F471D4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278ED-BF16-4584-92B8-2ADFEE5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91B7A-9D72-463C-84A5-76236002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0EC87-D99A-47EA-B7AD-D12F7C4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6569F-C196-41F8-BA2D-408395F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CD4CC-9361-4122-9552-9572AC91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A2776-31E2-4884-A38C-FD8853D5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8B65A-8BB8-414B-92CC-6696B6BA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71977-7895-4E4C-AD29-A00C6FAB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E49A5-C8CC-4697-9F9D-E8EC762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72DB1-B0E4-49DA-8DDE-ABFAA9EA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D7794-8B87-4E66-A723-2834623E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6F476-983D-4F5E-BF56-D8572B2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97726-5FA1-425A-B4F4-19F7534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50BA8-41AC-4427-AA51-4E9E1F49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5CFE4-CAB3-4E76-892B-E981F00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6FC61-6ECA-4FEB-9318-1871DF0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3BF73-D4D9-4B51-90C3-6E6867F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04B56-3618-40FE-8E21-1EE8A92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CE427-8122-440B-A11F-018D5492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40D65-E3F3-4AEB-9482-D582D522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79077-0010-4AFD-8ACF-B1212BA5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F0905-C0ED-4892-8C42-3858DB61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89818-1B21-453A-B668-22FA5BE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1F086-40A8-472E-8B35-7D2F38B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FF71A-D0CB-4BD1-813A-5F8C5EC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88DD4-7091-462C-A16B-CE6FACA4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55367-4CF7-4BCD-8846-F0B2EFF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C7707-D655-44A6-B8DC-FA40C01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F9257-0F02-443D-86CB-BA65191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FFD95-9C85-4EFA-95DF-9464841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BDDAA-92DA-4C7C-862B-27CD646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51225-0472-47E0-A99A-49026E52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FBDA-A08C-430E-B605-6ABFA396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5DC53-DB2D-4CD4-B1A8-4A06AD0E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B29EC-25BD-4C70-8392-1D521909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059CD-F189-4735-BD44-8511E46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37346-D686-4DFA-9263-1C8F495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AA1AE-E628-43F6-9D9A-E5D986AB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5B4D9-854C-4737-8C6D-52504F3D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2A4FD-6006-4EA8-B0B4-1B7B62AD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B1374-8AEA-43CA-8274-2A93010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3226B-FD81-484E-A6A1-95B97E4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44F49-B641-4D86-9A7E-98B5A82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3FE3E-F36A-46FF-9C3B-BAC78AEC2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A4319-E46B-4AEC-998E-FA5C67F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91EE7-A9C0-466B-AFCF-16A82365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6300A-3719-491D-BFC1-14A75C8A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85888-E9AC-4A23-8790-023A56B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1EDC9-AA02-49A6-A0E2-52F1A08E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8176A-72EF-45D8-9E42-C1A47F0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3C704-348F-404B-A9A4-35882DAA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1D82C-D552-4F56-A870-4C7782F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5F8E9-16FA-45E0-B8B3-14D53C0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F6C9B-6A0E-415D-9972-6D6C36F4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7A262-4493-4B43-8061-66F9C2F3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D6132-61C4-4F4F-B483-6BF7658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25B6C-2C9C-4CC7-BA0D-B02F907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A4F7A-F959-4B0C-806F-ABEA4222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FE5AF-BE4E-497B-8249-80C36CA9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C67C7-9559-4B35-A737-3049DF8D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57557-E00B-4053-B4C0-76DA5B10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C6304-ED99-4057-8E27-76C85BF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3CE41-4FA4-49B9-9E0F-6400B5D6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CF27B-9500-43EB-8ACF-513D3F23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291CD-8359-4DD1-9941-E859D1AB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14CCA-CBAE-41CD-81BD-A8243509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AA56E-0E53-4286-92EA-6BCD4D4F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AF8B1-552D-4358-84CE-1137209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E248D-F9AB-40B2-BDBA-E8ED60D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59E13-7C01-43B8-9919-BB1193E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99CEB-25F5-48C1-9299-44534BF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E1D90-8F0F-4AC0-BFE4-424DAE31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06F9F-81AB-445F-A399-EF611C83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35C2D-62A4-44C3-ACD1-B9D0FDB0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550AB-FD65-4768-B6C4-51101042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3E5CC-FB04-4774-9AE0-693BADA3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7261F-CBF0-4087-A18C-F448EE2F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752681-F04D-44DF-B8E4-E6B9581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63561-AEC8-4E27-84B2-29A0A066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4006A-0E18-4D4E-977F-F9F50839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D8378-670E-41D7-8DB2-F1C0601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A5C43-4AB7-402D-97F2-1463717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887BD-60C2-415C-857B-F3DB9A9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35012-C919-47C3-8E19-350138A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E09A7-8638-4C40-B624-D996A5BA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75682-2C21-44A9-BC76-9808ACAA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49E1B-1ADB-4B9D-9C95-3C7BD0B2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1B21-8929-4E6A-ABEF-FFC5926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E9A76-6CDB-4C08-B714-144E1D3E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149A1-E6BF-4EBD-AD33-3E2C57EA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5575D-F7FB-493D-980A-57DCB3C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78278-4AC0-4B35-9BBA-C141DDF7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DB416-602C-403A-853C-79BE0D9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ABC90-F0D4-4F6C-A019-A154B9B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99CF3-4069-454C-9A31-C84C3FB66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28F3-B58B-4D08-8BF1-6FC1444B7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7290-7105-4537-90E1-0A191C2F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EC7C-A083-4BD0-95B2-CAAF77C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26F0-3342-4462-A399-D457B516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CA1D-B0C2-4C7E-BE24-6769B160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EAC5-2AC9-4C7C-8431-519CC221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3380-BD08-4224-969B-5365F531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6137-7AB1-4A2B-95AB-85FF621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49DC-9709-4EC7-8A04-3EC6CC2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0671-996E-42E5-9C42-3E8CE410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DBC9-D83C-4992-8F76-474C652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E725-5A7D-4F57-B6FD-B115C4D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8A50-5087-4BD5-A7BD-5655F8763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AD1B6-2B66-48A6-B6F9-87ED35214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DFBD-2C17-4DFF-9AFA-F461B706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8994D-A47B-43A4-A53C-34352EE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FBB4C-662F-4056-A5F8-080508A2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AA49A-ECFF-431E-A6CC-02B42E5A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4E4B4-3E9B-400F-854D-085E99B7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27F6A-08CA-4EDF-B26C-984DBE21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7C20E-EC52-4A6E-9F14-C310C5CA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70825-B721-41FF-B672-D71C3DD7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F2F2B-3D06-451A-A080-9A506F3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F2AFF-2DA8-475F-9E00-CD9C1CE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24945-CC4A-42BC-80E5-086A2FA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D2B1-D48B-4C28-9FF0-1CAA7E14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FEA7A-EC0B-4E46-A334-A9FC45104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5DBB8-6F81-4A9B-B779-6CD592D210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30355-0EAD-403C-B84F-915A352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A72E64-363F-4EA9-978C-FCE00140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A2F58A-2C4F-4BC5-A9B1-6A3F643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23ABDF-A1D0-4D07-ADF3-24EBCB61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3BD49-FF58-4F58-A4E6-3AAA195F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A04926-C9F0-431F-AB9E-2F236B5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0EADC-364B-4114-9F13-FF106A9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70852-DA43-4046-A3A6-31E883C0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9A13-208D-48C6-82CB-A9708DBD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655F3-7D8B-47BE-BDBB-ADFCA81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17C01-F8C2-4666-A32C-D0EB0E46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4FB17-5B54-4C17-9493-00CAE6D49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9768-2DB5-4F89-BC1A-977EDE831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75D2-254F-410F-A520-5E0A7556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BC97-8FD5-4899-A5B6-A0DDC80C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87A98-AC76-4D87-AE95-63E260A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E305-7DC0-412A-A2DB-A26F2D30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4DCA-96DA-4823-A909-E7829ED7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A44B-05F9-42EF-A970-49CF686B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535B-E2BF-4AFA-AF4E-E91D7368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5CF18-0760-4B2B-BFA0-DEC36906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B308-C0B8-465B-8939-F145D94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6CF2-7AF6-4A19-8730-0ADE566F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F82F-6A33-4CD7-A0E9-B006E49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AD8D-3F53-448D-94F8-F09B6DD512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AAD5E-77D1-4C91-816E-F0B2251BB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46451-A826-4077-A47B-58738F2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CBCF5-1AF2-4E4C-81B3-E1A1C06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EA9A7-A2DD-4378-8136-8685F8C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6423D-959A-41CD-8D7F-7057B5B7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9FF4-C208-4204-84E0-29683034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FAC19-A86A-4084-8AF7-959D5EAE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6714A-0965-4189-B500-5674A7B1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49519-E81B-408C-8CF2-910EAE7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5CBD3-AD25-45C8-ADAC-02C4AE70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829F8-6270-4502-8CEC-0447C14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5EC70-93C8-4294-BDFA-2184607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2255F-DDD2-44D5-B3C2-10F2D3B41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4A9C67-AC28-4FA9-A3F3-095C793EB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67868A-ED5A-461E-8AB7-14C8B463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858577-6F64-4058-A892-D76B6BB2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85D-3593-46BE-8E85-32C6BF58C0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1B9D-EF12-4A7D-B1C2-1EB0BA33BC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AF4-E2FD-4450-99DA-40C6C71210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1AA-C12D-4108-9A57-A1BDE96465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4CAB-9C97-4095-98D8-7C6BCB3A99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D2EA-97EB-47BE-B44C-380ED32059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591-978F-48C9-9774-0E7E2E29B5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08FF-2777-4386-9193-CEFECCE1D3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F12-4BE4-463A-AAD8-EA76006E60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10B9-B77B-4DBD-8BDC-3EF199C3A0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0C8E-C948-4BF6-8942-4350A170C0A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E3A4-C696-48AB-BCB1-9E566497B7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D00-A713-439E-9D1A-4B5FBBAE4F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CA2-E6FE-4EED-818D-5CBF0A7785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B64A-73AD-4E2C-905F-963DF16F31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5AED-A6BF-45C6-BC2F-55379CD222A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2CAA-B341-4341-B3AB-227FB4A126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FD7C-965A-40EE-908F-FD546FFC4B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29D-EC01-4712-AF76-B3F5D6FF04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FBA-C2B8-48C4-BE0A-855F7EB3D6B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F79-545B-4E4D-8D8A-3797ED0BBF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FCBD-A449-49D8-B01E-96DCBC79E7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1A20-AEA9-4A08-BCBA-700416DEDC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3F2-36BD-452C-B3B6-4DECEDCAAB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2248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的 变 化 规 律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A087-F237-469D-9F1C-A8E952290718}" type="datetime">
              <a:rPr b="0" lang="zh-CN" sz="1200" spc="-1" strike="noStrike">
                <a:solidFill>
                  <a:srgbClr val="898989"/>
                </a:solidFill>
                <a:latin typeface="Cambria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"/>
          <p:cNvSpPr/>
          <p:nvPr/>
        </p:nvSpPr>
        <p:spPr>
          <a:xfrm>
            <a:off x="728640" y="2014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40÷20=            700÷70=           150÷3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70÷90=            160÷80=           1200÷30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38"/>
          <p:cNvSpPr/>
          <p:nvPr/>
        </p:nvSpPr>
        <p:spPr>
          <a:xfrm>
            <a:off x="2338560" y="26128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39"/>
          <p:cNvSpPr/>
          <p:nvPr/>
        </p:nvSpPr>
        <p:spPr>
          <a:xfrm>
            <a:off x="2443320" y="35877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40"/>
          <p:cNvSpPr/>
          <p:nvPr/>
        </p:nvSpPr>
        <p:spPr>
          <a:xfrm>
            <a:off x="4565520" y="2575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41"/>
          <p:cNvSpPr/>
          <p:nvPr/>
        </p:nvSpPr>
        <p:spPr>
          <a:xfrm>
            <a:off x="4789440" y="35942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42"/>
          <p:cNvSpPr/>
          <p:nvPr/>
        </p:nvSpPr>
        <p:spPr>
          <a:xfrm>
            <a:off x="6894360" y="257976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43"/>
          <p:cNvSpPr/>
          <p:nvPr/>
        </p:nvSpPr>
        <p:spPr>
          <a:xfrm>
            <a:off x="7315200" y="35719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7" name="TextBox 1"/>
          <p:cNvSpPr/>
          <p:nvPr/>
        </p:nvSpPr>
        <p:spPr>
          <a:xfrm>
            <a:off x="501480" y="120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2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9" name="TextBox 1"/>
          <p:cNvSpPr/>
          <p:nvPr/>
        </p:nvSpPr>
        <p:spPr>
          <a:xfrm>
            <a:off x="430200" y="115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"/>
          <p:cNvSpPr/>
          <p:nvPr/>
        </p:nvSpPr>
        <p:spPr>
          <a:xfrm>
            <a:off x="44460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80÷3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31"/>
          <p:cNvSpPr/>
          <p:nvPr/>
        </p:nvSpPr>
        <p:spPr>
          <a:xfrm>
            <a:off x="785880" y="4371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这两种方法对吗？哪种方法简便一些？为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32"/>
          <p:cNvSpPr/>
          <p:nvPr/>
        </p:nvSpPr>
        <p:spPr>
          <a:xfrm>
            <a:off x="3227400" y="100008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35"/>
          <p:cNvSpPr/>
          <p:nvPr/>
        </p:nvSpPr>
        <p:spPr>
          <a:xfrm>
            <a:off x="785880" y="5143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笔算时，当被除数和除数末尾都有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我们可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运用商不变的规律使计算简便得多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3"/>
          <p:cNvGrpSpPr/>
          <p:nvPr/>
        </p:nvGrpSpPr>
        <p:grpSpPr>
          <a:xfrm>
            <a:off x="2643120" y="1857240"/>
            <a:ext cx="1668600" cy="1962720"/>
            <a:chOff x="2643120" y="1857240"/>
            <a:chExt cx="1668600" cy="1962720"/>
          </a:xfrm>
        </p:grpSpPr>
        <p:sp>
          <p:nvSpPr>
            <p:cNvPr id="1035" name="TextBox 4"/>
            <p:cNvSpPr/>
            <p:nvPr/>
          </p:nvSpPr>
          <p:spPr>
            <a:xfrm>
              <a:off x="2643120" y="185724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0  7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6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组合 27"/>
            <p:cNvGrpSpPr/>
            <p:nvPr/>
          </p:nvGrpSpPr>
          <p:grpSpPr>
            <a:xfrm>
              <a:off x="2771640" y="2209680"/>
              <a:ext cx="1540080" cy="1610280"/>
              <a:chOff x="2771640" y="2209680"/>
              <a:chExt cx="1540080" cy="1610280"/>
            </a:xfrm>
          </p:grpSpPr>
          <p:sp>
            <p:nvSpPr>
              <p:cNvPr id="1037" name="弧形 6"/>
              <p:cNvSpPr/>
              <p:nvPr/>
            </p:nvSpPr>
            <p:spPr>
              <a:xfrm rot="1018800">
                <a:off x="2895840" y="2237400"/>
                <a:ext cx="32508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3225240" y="3057120"/>
                <a:ext cx="1071360" cy="360"/>
                <a:chOff x="3225240" y="3057120"/>
                <a:chExt cx="1071360" cy="360"/>
              </a:xfrm>
            </p:grpSpPr>
            <p:sp>
              <p:nvSpPr>
                <p:cNvPr id="1039" name="直接连接符 7"/>
                <p:cNvSpPr/>
                <p:nvPr/>
              </p:nvSpPr>
              <p:spPr>
                <a:xfrm>
                  <a:off x="3225240" y="305712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 txBox="1"/>
                <p:nvPr/>
              </p:nvSpPr>
              <p:spPr>
                <a:xfrm>
                  <a:off x="3225240" y="305712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202920" y="2263680"/>
                <a:ext cx="1071360" cy="360"/>
                <a:chOff x="3202920" y="2263680"/>
                <a:chExt cx="1071360" cy="360"/>
              </a:xfrm>
            </p:grpSpPr>
            <p:sp>
              <p:nvSpPr>
                <p:cNvPr id="1042" name="直接连接符 8"/>
                <p:cNvSpPr/>
                <p:nvPr/>
              </p:nvSpPr>
              <p:spPr>
                <a:xfrm>
                  <a:off x="3202920" y="226368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>
                  <a:off x="3202920" y="226368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3240360" y="3819600"/>
                <a:ext cx="1071360" cy="360"/>
                <a:chOff x="3240360" y="3819600"/>
                <a:chExt cx="1071360" cy="360"/>
              </a:xfrm>
            </p:grpSpPr>
            <p:sp>
              <p:nvSpPr>
                <p:cNvPr id="1045" name="直接连接符 9"/>
                <p:cNvSpPr/>
                <p:nvPr/>
              </p:nvSpPr>
              <p:spPr>
                <a:xfrm>
                  <a:off x="3240360" y="381960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 txBox="1"/>
                <p:nvPr/>
              </p:nvSpPr>
              <p:spPr>
                <a:xfrm>
                  <a:off x="3240360" y="381960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7" name="组合 11"/>
          <p:cNvGrpSpPr/>
          <p:nvPr/>
        </p:nvGrpSpPr>
        <p:grpSpPr>
          <a:xfrm>
            <a:off x="4546440" y="1857240"/>
            <a:ext cx="1668600" cy="1962720"/>
            <a:chOff x="4546440" y="1857240"/>
            <a:chExt cx="1668600" cy="1962720"/>
          </a:xfrm>
        </p:grpSpPr>
        <p:sp>
          <p:nvSpPr>
            <p:cNvPr id="1048" name="TextBox 12"/>
            <p:cNvSpPr/>
            <p:nvPr/>
          </p:nvSpPr>
          <p:spPr>
            <a:xfrm>
              <a:off x="4546440" y="185724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0  7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9" name="组合 27"/>
            <p:cNvGrpSpPr/>
            <p:nvPr/>
          </p:nvGrpSpPr>
          <p:grpSpPr>
            <a:xfrm>
              <a:off x="4674960" y="2209680"/>
              <a:ext cx="1540080" cy="1610280"/>
              <a:chOff x="4674960" y="2209680"/>
              <a:chExt cx="1540080" cy="1610280"/>
            </a:xfrm>
          </p:grpSpPr>
          <p:sp>
            <p:nvSpPr>
              <p:cNvPr id="1050" name="弧形 14"/>
              <p:cNvSpPr/>
              <p:nvPr/>
            </p:nvSpPr>
            <p:spPr>
              <a:xfrm rot="1018800">
                <a:off x="4799160" y="2237400"/>
                <a:ext cx="32508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5128560" y="3057120"/>
                <a:ext cx="1071360" cy="360"/>
                <a:chOff x="5128560" y="3057120"/>
                <a:chExt cx="1071360" cy="360"/>
              </a:xfrm>
            </p:grpSpPr>
            <p:sp>
              <p:nvSpPr>
                <p:cNvPr id="1052" name="直接连接符 15"/>
                <p:cNvSpPr/>
                <p:nvPr/>
              </p:nvSpPr>
              <p:spPr>
                <a:xfrm>
                  <a:off x="5128560" y="305712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 txBox="1"/>
                <p:nvPr/>
              </p:nvSpPr>
              <p:spPr>
                <a:xfrm>
                  <a:off x="5128560" y="305712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5106240" y="2263680"/>
                <a:ext cx="1071360" cy="360"/>
                <a:chOff x="5106240" y="2263680"/>
                <a:chExt cx="1071360" cy="360"/>
              </a:xfrm>
            </p:grpSpPr>
            <p:sp>
              <p:nvSpPr>
                <p:cNvPr id="1055" name="直接连接符 16"/>
                <p:cNvSpPr/>
                <p:nvPr/>
              </p:nvSpPr>
              <p:spPr>
                <a:xfrm>
                  <a:off x="5106240" y="226368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5106240" y="226368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5143680" y="3819600"/>
                <a:ext cx="1071360" cy="360"/>
                <a:chOff x="5143680" y="3819600"/>
                <a:chExt cx="1071360" cy="360"/>
              </a:xfrm>
            </p:grpSpPr>
            <p:sp>
              <p:nvSpPr>
                <p:cNvPr id="1058" name="直接连接符 17"/>
                <p:cNvSpPr/>
                <p:nvPr/>
              </p:nvSpPr>
              <p:spPr>
                <a:xfrm>
                  <a:off x="5143680" y="381960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>
                  <a:off x="5143680" y="381960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0" name=""/>
          <p:cNvGrpSpPr/>
          <p:nvPr/>
        </p:nvGrpSpPr>
        <p:grpSpPr>
          <a:xfrm>
            <a:off x="4868280" y="2384280"/>
            <a:ext cx="214920" cy="214560"/>
            <a:chOff x="4868280" y="2384280"/>
            <a:chExt cx="214920" cy="214560"/>
          </a:xfrm>
        </p:grpSpPr>
        <p:sp>
          <p:nvSpPr>
            <p:cNvPr id="1061" name="直接连接符 19"/>
            <p:cNvSpPr/>
            <p:nvPr/>
          </p:nvSpPr>
          <p:spPr>
            <a:xfrm>
              <a:off x="4868280" y="2384280"/>
              <a:ext cx="214200" cy="21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 rot="16200000">
              <a:off x="4868640" y="2384280"/>
              <a:ext cx="2145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937120" y="2368440"/>
            <a:ext cx="214560" cy="214560"/>
            <a:chOff x="5937120" y="2368440"/>
            <a:chExt cx="214560" cy="214560"/>
          </a:xfrm>
        </p:grpSpPr>
        <p:sp>
          <p:nvSpPr>
            <p:cNvPr id="1064" name="直接连接符 20"/>
            <p:cNvSpPr/>
            <p:nvPr/>
          </p:nvSpPr>
          <p:spPr>
            <a:xfrm>
              <a:off x="5937120" y="2368440"/>
              <a:ext cx="214560" cy="21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 rot="16200000">
              <a:off x="5937120" y="2368440"/>
              <a:ext cx="214560" cy="2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34"/>
          <p:cNvGrpSpPr/>
          <p:nvPr/>
        </p:nvGrpSpPr>
        <p:grpSpPr>
          <a:xfrm>
            <a:off x="6346800" y="2395440"/>
            <a:ext cx="2600280" cy="1533600"/>
            <a:chOff x="6346800" y="2395440"/>
            <a:chExt cx="2600280" cy="1533600"/>
          </a:xfrm>
        </p:grpSpPr>
        <p:pic>
          <p:nvPicPr>
            <p:cNvPr id="1067" name="图片 27" descr="234768-14051F0212184.jpg"/>
            <p:cNvPicPr/>
            <p:nvPr/>
          </p:nvPicPr>
          <p:blipFill>
            <a:blip r:embed="rId8"/>
            <a:stretch/>
          </p:blipFill>
          <p:spPr>
            <a:xfrm>
              <a:off x="8061120" y="2395440"/>
              <a:ext cx="88596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TextBox 22"/>
            <p:cNvSpPr/>
            <p:nvPr/>
          </p:nvSpPr>
          <p:spPr>
            <a:xfrm>
              <a:off x="6346800" y="2835000"/>
              <a:ext cx="1642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我这样做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标注 24"/>
            <p:cNvSpPr/>
            <p:nvPr/>
          </p:nvSpPr>
          <p:spPr>
            <a:xfrm>
              <a:off x="6357960" y="2857680"/>
              <a:ext cx="1571400" cy="428400"/>
            </a:xfrm>
            <a:prstGeom prst="wedgeRoundRectCallout">
              <a:avLst>
                <a:gd name="adj1" fmla="val 61768"/>
                <a:gd name="adj2" fmla="val 3050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Box 29"/>
            <p:cNvSpPr/>
            <p:nvPr/>
          </p:nvSpPr>
          <p:spPr>
            <a:xfrm>
              <a:off x="7500960" y="3429360"/>
              <a:ext cx="91404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组合 33"/>
          <p:cNvGrpSpPr/>
          <p:nvPr/>
        </p:nvGrpSpPr>
        <p:grpSpPr>
          <a:xfrm>
            <a:off x="71280" y="2286000"/>
            <a:ext cx="2632320" cy="1577880"/>
            <a:chOff x="71280" y="2286000"/>
            <a:chExt cx="2632320" cy="1577880"/>
          </a:xfrm>
        </p:grpSpPr>
        <p:pic>
          <p:nvPicPr>
            <p:cNvPr id="1072" name="图片 28" descr="20087116614671_2.jpg"/>
            <p:cNvPicPr/>
            <p:nvPr/>
          </p:nvPicPr>
          <p:blipFill>
            <a:blip r:embed="rId9"/>
            <a:stretch/>
          </p:blipFill>
          <p:spPr>
            <a:xfrm flipH="1">
              <a:off x="71280" y="2286000"/>
              <a:ext cx="10000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TextBox 21"/>
            <p:cNvSpPr/>
            <p:nvPr/>
          </p:nvSpPr>
          <p:spPr>
            <a:xfrm>
              <a:off x="1060200" y="2616840"/>
              <a:ext cx="1643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我这样做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标注 23"/>
            <p:cNvSpPr/>
            <p:nvPr/>
          </p:nvSpPr>
          <p:spPr>
            <a:xfrm>
              <a:off x="1071360" y="2643120"/>
              <a:ext cx="1571760" cy="428400"/>
            </a:xfrm>
            <a:prstGeom prst="wedgeRoundRectCallout">
              <a:avLst>
                <a:gd name="adj1" fmla="val -58898"/>
                <a:gd name="adj2" fmla="val 39921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Box 30"/>
            <p:cNvSpPr/>
            <p:nvPr/>
          </p:nvSpPr>
          <p:spPr>
            <a:xfrm>
              <a:off x="785520" y="3214800"/>
              <a:ext cx="914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八边形 7"/>
          <p:cNvSpPr/>
          <p:nvPr/>
        </p:nvSpPr>
        <p:spPr>
          <a:xfrm>
            <a:off x="457200" y="9237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Box 1"/>
          <p:cNvSpPr/>
          <p:nvPr/>
        </p:nvSpPr>
        <p:spPr>
          <a:xfrm>
            <a:off x="514440" y="94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15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3"/>
          <p:cNvGrpSpPr/>
          <p:nvPr/>
        </p:nvGrpSpPr>
        <p:grpSpPr>
          <a:xfrm>
            <a:off x="1214280" y="1144440"/>
            <a:ext cx="6697800" cy="1285920"/>
            <a:chOff x="1214280" y="1144440"/>
            <a:chExt cx="6697800" cy="1285920"/>
          </a:xfrm>
        </p:grpSpPr>
        <p:sp>
          <p:nvSpPr>
            <p:cNvPr id="1079" name="TextBox 2"/>
            <p:cNvSpPr/>
            <p:nvPr/>
          </p:nvSpPr>
          <p:spPr>
            <a:xfrm>
              <a:off x="1214280" y="1501560"/>
              <a:ext cx="959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 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这道算式能运用商不变的规律使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计算更简便吗？可以怎样做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圆角矩形标注 3"/>
            <p:cNvSpPr/>
            <p:nvPr/>
          </p:nvSpPr>
          <p:spPr>
            <a:xfrm>
              <a:off x="1214280" y="1515240"/>
              <a:ext cx="5173200" cy="857520"/>
            </a:xfrm>
            <a:prstGeom prst="wedgeRoundRectCallout">
              <a:avLst>
                <a:gd name="adj1" fmla="val 55949"/>
                <a:gd name="adj2" fmla="val 5791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图片 4" descr="000.gif"/>
            <p:cNvPicPr/>
            <p:nvPr/>
          </p:nvPicPr>
          <p:blipFill>
            <a:blip r:embed="rId1"/>
            <a:stretch/>
          </p:blipFill>
          <p:spPr>
            <a:xfrm>
              <a:off x="6687360" y="1144440"/>
              <a:ext cx="122472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2" name="矩形 5"/>
          <p:cNvSpPr/>
          <p:nvPr/>
        </p:nvSpPr>
        <p:spPr>
          <a:xfrm>
            <a:off x="1068840" y="2798640"/>
            <a:ext cx="343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×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240÷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6"/>
          <p:cNvSpPr/>
          <p:nvPr/>
        </p:nvSpPr>
        <p:spPr>
          <a:xfrm>
            <a:off x="5069520" y="2798640"/>
            <a:ext cx="343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×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480÷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7"/>
          <p:cNvSpPr/>
          <p:nvPr/>
        </p:nvSpPr>
        <p:spPr>
          <a:xfrm>
            <a:off x="357120" y="5014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这两种方法是把被除数和除数都乘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或都乘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使除数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变成了整十数，这样方便我们口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出结果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2951280" y="9158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857160" y="930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40÷5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17"/>
          <p:cNvSpPr/>
          <p:nvPr/>
        </p:nvSpPr>
        <p:spPr>
          <a:xfrm>
            <a:off x="928800" y="385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商都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没错，余数到底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还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18"/>
          <p:cNvSpPr/>
          <p:nvPr/>
        </p:nvSpPr>
        <p:spPr>
          <a:xfrm>
            <a:off x="442800" y="4643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用商不变的规律简便计算时要注意商是不变的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但是余数变了。被除数和除数末尾同时划去了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余数末尾就要添上几个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19"/>
          <p:cNvSpPr/>
          <p:nvPr/>
        </p:nvSpPr>
        <p:spPr>
          <a:xfrm>
            <a:off x="2570040" y="91908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2"/>
          <p:cNvGrpSpPr/>
          <p:nvPr/>
        </p:nvGrpSpPr>
        <p:grpSpPr>
          <a:xfrm>
            <a:off x="3214800" y="1430280"/>
            <a:ext cx="1668240" cy="1962720"/>
            <a:chOff x="3214800" y="1430280"/>
            <a:chExt cx="1668240" cy="1962720"/>
          </a:xfrm>
        </p:grpSpPr>
        <p:sp>
          <p:nvSpPr>
            <p:cNvPr id="1091" name="TextBox 3"/>
            <p:cNvSpPr/>
            <p:nvPr/>
          </p:nvSpPr>
          <p:spPr>
            <a:xfrm>
              <a:off x="3214800" y="1430280"/>
              <a:ext cx="913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5 0  8  4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组合 27"/>
            <p:cNvGrpSpPr/>
            <p:nvPr/>
          </p:nvGrpSpPr>
          <p:grpSpPr>
            <a:xfrm>
              <a:off x="3343320" y="1782720"/>
              <a:ext cx="1539720" cy="1610280"/>
              <a:chOff x="3343320" y="1782720"/>
              <a:chExt cx="1539720" cy="1610280"/>
            </a:xfrm>
          </p:grpSpPr>
          <p:sp>
            <p:nvSpPr>
              <p:cNvPr id="1093" name="弧形 5"/>
              <p:cNvSpPr/>
              <p:nvPr/>
            </p:nvSpPr>
            <p:spPr>
              <a:xfrm rot="1018800">
                <a:off x="3467880" y="1810440"/>
                <a:ext cx="32472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3796920" y="2630160"/>
                <a:ext cx="1071000" cy="360"/>
                <a:chOff x="3796920" y="2630160"/>
                <a:chExt cx="1071000" cy="360"/>
              </a:xfrm>
            </p:grpSpPr>
            <p:sp>
              <p:nvSpPr>
                <p:cNvPr id="1095" name="直接连接符 6"/>
                <p:cNvSpPr/>
                <p:nvPr/>
              </p:nvSpPr>
              <p:spPr>
                <a:xfrm>
                  <a:off x="3796920" y="2630160"/>
                  <a:ext cx="1071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 txBox="1"/>
                <p:nvPr/>
              </p:nvSpPr>
              <p:spPr>
                <a:xfrm>
                  <a:off x="3796920" y="263016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3774240" y="1836720"/>
                <a:ext cx="1071000" cy="360"/>
                <a:chOff x="3774240" y="1836720"/>
                <a:chExt cx="1071000" cy="360"/>
              </a:xfrm>
            </p:grpSpPr>
            <p:sp>
              <p:nvSpPr>
                <p:cNvPr id="1098" name="直接连接符 7"/>
                <p:cNvSpPr/>
                <p:nvPr/>
              </p:nvSpPr>
              <p:spPr>
                <a:xfrm>
                  <a:off x="3774240" y="1836720"/>
                  <a:ext cx="1071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 txBox="1"/>
                <p:nvPr/>
              </p:nvSpPr>
              <p:spPr>
                <a:xfrm>
                  <a:off x="3774240" y="183672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3812040" y="3392640"/>
                <a:ext cx="1071000" cy="360"/>
                <a:chOff x="3812040" y="3392640"/>
                <a:chExt cx="1071000" cy="360"/>
              </a:xfrm>
            </p:grpSpPr>
            <p:sp>
              <p:nvSpPr>
                <p:cNvPr id="1101" name="直接连接符 8"/>
                <p:cNvSpPr/>
                <p:nvPr/>
              </p:nvSpPr>
              <p:spPr>
                <a:xfrm>
                  <a:off x="3812040" y="3392640"/>
                  <a:ext cx="1071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 txBox="1"/>
                <p:nvPr/>
              </p:nvSpPr>
              <p:spPr>
                <a:xfrm>
                  <a:off x="3812040" y="339264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3" name=""/>
          <p:cNvGrpSpPr/>
          <p:nvPr/>
        </p:nvGrpSpPr>
        <p:grpSpPr>
          <a:xfrm>
            <a:off x="3538440" y="1957320"/>
            <a:ext cx="214560" cy="214560"/>
            <a:chOff x="3538440" y="1957320"/>
            <a:chExt cx="214560" cy="214560"/>
          </a:xfrm>
        </p:grpSpPr>
        <p:sp>
          <p:nvSpPr>
            <p:cNvPr id="1104" name="直接连接符 9"/>
            <p:cNvSpPr/>
            <p:nvPr/>
          </p:nvSpPr>
          <p:spPr>
            <a:xfrm>
              <a:off x="3538440" y="1957320"/>
              <a:ext cx="214560" cy="21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 rot="16200000">
              <a:off x="3538440" y="1957320"/>
              <a:ext cx="214560" cy="2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604760" y="1941120"/>
            <a:ext cx="214920" cy="214560"/>
            <a:chOff x="4604760" y="1941120"/>
            <a:chExt cx="214920" cy="214560"/>
          </a:xfrm>
        </p:grpSpPr>
        <p:sp>
          <p:nvSpPr>
            <p:cNvPr id="1107" name="直接连接符 10"/>
            <p:cNvSpPr/>
            <p:nvPr/>
          </p:nvSpPr>
          <p:spPr>
            <a:xfrm>
              <a:off x="4604760" y="1941480"/>
              <a:ext cx="214200" cy="21420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 txBox="1"/>
            <p:nvPr/>
          </p:nvSpPr>
          <p:spPr>
            <a:xfrm rot="16200000">
              <a:off x="4605480" y="1941120"/>
              <a:ext cx="214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组合 20"/>
          <p:cNvGrpSpPr/>
          <p:nvPr/>
        </p:nvGrpSpPr>
        <p:grpSpPr>
          <a:xfrm>
            <a:off x="1000080" y="1787400"/>
            <a:ext cx="1785960" cy="1357560"/>
            <a:chOff x="1000080" y="1787400"/>
            <a:chExt cx="1785960" cy="1357560"/>
          </a:xfrm>
        </p:grpSpPr>
        <p:sp>
          <p:nvSpPr>
            <p:cNvPr id="1110" name="TextBox 11"/>
            <p:cNvSpPr/>
            <p:nvPr/>
          </p:nvSpPr>
          <p:spPr>
            <a:xfrm>
              <a:off x="1928880" y="207324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余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1" name="图片 13" descr="20087116614671_2.jpg"/>
            <p:cNvPicPr/>
            <p:nvPr/>
          </p:nvPicPr>
          <p:blipFill>
            <a:blip r:embed="rId1"/>
            <a:stretch/>
          </p:blipFill>
          <p:spPr>
            <a:xfrm flipH="1">
              <a:off x="1000080" y="1787400"/>
              <a:ext cx="86040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圆角矩形标注 15"/>
            <p:cNvSpPr/>
            <p:nvPr/>
          </p:nvSpPr>
          <p:spPr>
            <a:xfrm>
              <a:off x="1928880" y="2095560"/>
              <a:ext cx="857160" cy="428760"/>
            </a:xfrm>
            <a:prstGeom prst="wedgeRoundRectCallout">
              <a:avLst>
                <a:gd name="adj1" fmla="val -72189"/>
                <a:gd name="adj2" fmla="val 1921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组合 21"/>
          <p:cNvGrpSpPr/>
          <p:nvPr/>
        </p:nvGrpSpPr>
        <p:grpSpPr>
          <a:xfrm>
            <a:off x="5572080" y="1644480"/>
            <a:ext cx="1785960" cy="1189080"/>
            <a:chOff x="5572080" y="1644480"/>
            <a:chExt cx="1785960" cy="1189080"/>
          </a:xfrm>
        </p:grpSpPr>
        <p:sp>
          <p:nvSpPr>
            <p:cNvPr id="1114" name="TextBox 12"/>
            <p:cNvSpPr/>
            <p:nvPr/>
          </p:nvSpPr>
          <p:spPr>
            <a:xfrm>
              <a:off x="5575680" y="207324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余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40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5" name="图片 14" descr="11.gif"/>
            <p:cNvPicPr/>
            <p:nvPr/>
          </p:nvPicPr>
          <p:blipFill>
            <a:blip r:embed="rId2"/>
            <a:stretch/>
          </p:blipFill>
          <p:spPr>
            <a:xfrm>
              <a:off x="6715080" y="1644480"/>
              <a:ext cx="6429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圆角矩形标注 16"/>
            <p:cNvSpPr/>
            <p:nvPr/>
          </p:nvSpPr>
          <p:spPr>
            <a:xfrm>
              <a:off x="5572080" y="2107080"/>
              <a:ext cx="1000080" cy="428760"/>
            </a:xfrm>
            <a:prstGeom prst="wedgeRoundRectCallout">
              <a:avLst>
                <a:gd name="adj1" fmla="val 67393"/>
                <a:gd name="adj2" fmla="val 7189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八边形 1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2"/>
          <p:cNvSpPr/>
          <p:nvPr/>
        </p:nvSpPr>
        <p:spPr>
          <a:xfrm>
            <a:off x="517680" y="8222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Box 4"/>
          <p:cNvSpPr/>
          <p:nvPr/>
        </p:nvSpPr>
        <p:spPr>
          <a:xfrm>
            <a:off x="428760" y="717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00÷40                             540÷20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70÷30                             980÷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8"/>
          <p:cNvSpPr/>
          <p:nvPr/>
        </p:nvSpPr>
        <p:spPr>
          <a:xfrm>
            <a:off x="2131920" y="74628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15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8"/>
          <p:cNvSpPr/>
          <p:nvPr/>
        </p:nvSpPr>
        <p:spPr>
          <a:xfrm>
            <a:off x="5937120" y="74628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14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28"/>
          <p:cNvSpPr/>
          <p:nvPr/>
        </p:nvSpPr>
        <p:spPr>
          <a:xfrm>
            <a:off x="2112840" y="3387600"/>
            <a:ext cx="357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22······1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8"/>
          <p:cNvSpPr/>
          <p:nvPr/>
        </p:nvSpPr>
        <p:spPr>
          <a:xfrm>
            <a:off x="5880240" y="33876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19······30  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58377"/>
          <p:cNvGrpSpPr/>
          <p:nvPr/>
        </p:nvGrpSpPr>
        <p:grpSpPr>
          <a:xfrm>
            <a:off x="285840" y="1100160"/>
            <a:ext cx="1740600" cy="1970280"/>
            <a:chOff x="285840" y="1100160"/>
            <a:chExt cx="1740600" cy="1970280"/>
          </a:xfrm>
        </p:grpSpPr>
        <p:sp>
          <p:nvSpPr>
            <p:cNvPr id="1125" name="TextBox 18"/>
            <p:cNvSpPr/>
            <p:nvPr/>
          </p:nvSpPr>
          <p:spPr>
            <a:xfrm>
              <a:off x="285840" y="110016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0  6  0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713520" y="1599480"/>
              <a:ext cx="214920" cy="214560"/>
              <a:chOff x="713520" y="1599480"/>
              <a:chExt cx="214920" cy="214560"/>
            </a:xfrm>
          </p:grpSpPr>
          <p:sp>
            <p:nvSpPr>
              <p:cNvPr id="1127" name="直接连接符 9"/>
              <p:cNvSpPr/>
              <p:nvPr/>
            </p:nvSpPr>
            <p:spPr>
              <a:xfrm>
                <a:off x="713520" y="1599480"/>
                <a:ext cx="21420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 rot="16200000">
                <a:off x="713880" y="1599480"/>
                <a:ext cx="2145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779120" y="1593360"/>
              <a:ext cx="213840" cy="214560"/>
              <a:chOff x="1779120" y="1593360"/>
              <a:chExt cx="213840" cy="214560"/>
            </a:xfrm>
          </p:grpSpPr>
          <p:sp>
            <p:nvSpPr>
              <p:cNvPr id="1130" name="直接连接符 9"/>
              <p:cNvSpPr/>
              <p:nvPr/>
            </p:nvSpPr>
            <p:spPr>
              <a:xfrm>
                <a:off x="1779120" y="159336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 rot="16200000">
                <a:off x="1778760" y="159372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组合 58381"/>
            <p:cNvGrpSpPr/>
            <p:nvPr/>
          </p:nvGrpSpPr>
          <p:grpSpPr>
            <a:xfrm>
              <a:off x="494640" y="1489320"/>
              <a:ext cx="1531800" cy="1581120"/>
              <a:chOff x="494640" y="1489320"/>
              <a:chExt cx="1531800" cy="1581120"/>
            </a:xfrm>
          </p:grpSpPr>
          <p:sp>
            <p:nvSpPr>
              <p:cNvPr id="1133" name="弧形 6"/>
              <p:cNvSpPr/>
              <p:nvPr/>
            </p:nvSpPr>
            <p:spPr>
              <a:xfrm rot="960000">
                <a:off x="612360" y="1516320"/>
                <a:ext cx="324000" cy="90000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941400" y="2297880"/>
                <a:ext cx="1069920" cy="360"/>
                <a:chOff x="941400" y="2297880"/>
                <a:chExt cx="1069920" cy="360"/>
              </a:xfrm>
            </p:grpSpPr>
            <p:sp>
              <p:nvSpPr>
                <p:cNvPr id="1135" name="直接连接符 7"/>
                <p:cNvSpPr/>
                <p:nvPr/>
              </p:nvSpPr>
              <p:spPr>
                <a:xfrm>
                  <a:off x="941400" y="229788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>
                  <a:off x="941400" y="229788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918720" y="1542600"/>
                <a:ext cx="1069920" cy="360"/>
                <a:chOff x="918720" y="1542600"/>
                <a:chExt cx="1069920" cy="360"/>
              </a:xfrm>
            </p:grpSpPr>
            <p:sp>
              <p:nvSpPr>
                <p:cNvPr id="1138" name="直接连接符 8"/>
                <p:cNvSpPr/>
                <p:nvPr/>
              </p:nvSpPr>
              <p:spPr>
                <a:xfrm>
                  <a:off x="918720" y="154260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 txBox="1"/>
                <p:nvPr/>
              </p:nvSpPr>
              <p:spPr>
                <a:xfrm>
                  <a:off x="918720" y="154260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956520" y="3070080"/>
                <a:ext cx="1069920" cy="360"/>
                <a:chOff x="956520" y="3070080"/>
                <a:chExt cx="1069920" cy="360"/>
              </a:xfrm>
            </p:grpSpPr>
            <p:sp>
              <p:nvSpPr>
                <p:cNvPr id="1141" name="直接连接符 9"/>
                <p:cNvSpPr/>
                <p:nvPr/>
              </p:nvSpPr>
              <p:spPr>
                <a:xfrm>
                  <a:off x="956520" y="307008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>
                  <a:off x="956520" y="307008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3" name="组合 58386"/>
          <p:cNvGrpSpPr/>
          <p:nvPr/>
        </p:nvGrpSpPr>
        <p:grpSpPr>
          <a:xfrm>
            <a:off x="4481640" y="1100160"/>
            <a:ext cx="1793880" cy="1970280"/>
            <a:chOff x="4481640" y="1100160"/>
            <a:chExt cx="1793880" cy="1970280"/>
          </a:xfrm>
        </p:grpSpPr>
        <p:sp>
          <p:nvSpPr>
            <p:cNvPr id="1144" name="TextBox 18"/>
            <p:cNvSpPr/>
            <p:nvPr/>
          </p:nvSpPr>
          <p:spPr>
            <a:xfrm>
              <a:off x="4481640" y="110016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0  5  4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4923000" y="1593360"/>
              <a:ext cx="213840" cy="214560"/>
              <a:chOff x="4923000" y="1593360"/>
              <a:chExt cx="213840" cy="214560"/>
            </a:xfrm>
          </p:grpSpPr>
          <p:sp>
            <p:nvSpPr>
              <p:cNvPr id="1146" name="直接连接符 9"/>
              <p:cNvSpPr/>
              <p:nvPr/>
            </p:nvSpPr>
            <p:spPr>
              <a:xfrm>
                <a:off x="4923000" y="159336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 txBox="1"/>
              <p:nvPr/>
            </p:nvSpPr>
            <p:spPr>
              <a:xfrm rot="16200000">
                <a:off x="4922640" y="159372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000480" y="1599480"/>
              <a:ext cx="214560" cy="214560"/>
              <a:chOff x="6000480" y="1599480"/>
              <a:chExt cx="214560" cy="214560"/>
            </a:xfrm>
          </p:grpSpPr>
          <p:sp>
            <p:nvSpPr>
              <p:cNvPr id="1149" name="直接连接符 9"/>
              <p:cNvSpPr/>
              <p:nvPr/>
            </p:nvSpPr>
            <p:spPr>
              <a:xfrm>
                <a:off x="6000480" y="1599480"/>
                <a:ext cx="21456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 txBox="1"/>
              <p:nvPr/>
            </p:nvSpPr>
            <p:spPr>
              <a:xfrm rot="16200000">
                <a:off x="6000480" y="1599480"/>
                <a:ext cx="214560" cy="21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组合 58390"/>
            <p:cNvGrpSpPr/>
            <p:nvPr/>
          </p:nvGrpSpPr>
          <p:grpSpPr>
            <a:xfrm>
              <a:off x="4742280" y="1489320"/>
              <a:ext cx="1533240" cy="1581120"/>
              <a:chOff x="4742280" y="1489320"/>
              <a:chExt cx="1533240" cy="1581120"/>
            </a:xfrm>
          </p:grpSpPr>
          <p:sp>
            <p:nvSpPr>
              <p:cNvPr id="1152" name="弧形 6"/>
              <p:cNvSpPr/>
              <p:nvPr/>
            </p:nvSpPr>
            <p:spPr>
              <a:xfrm rot="960000">
                <a:off x="4860000" y="1516320"/>
                <a:ext cx="324000" cy="90000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5189400" y="2297880"/>
                <a:ext cx="1070640" cy="360"/>
                <a:chOff x="5189400" y="2297880"/>
                <a:chExt cx="1070640" cy="360"/>
              </a:xfrm>
            </p:grpSpPr>
            <p:sp>
              <p:nvSpPr>
                <p:cNvPr id="1154" name="直接连接符 7"/>
                <p:cNvSpPr/>
                <p:nvPr/>
              </p:nvSpPr>
              <p:spPr>
                <a:xfrm>
                  <a:off x="5189400" y="229788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 txBox="1"/>
                <p:nvPr/>
              </p:nvSpPr>
              <p:spPr>
                <a:xfrm>
                  <a:off x="5189400" y="229788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5166360" y="1542600"/>
                <a:ext cx="1070640" cy="360"/>
                <a:chOff x="5166360" y="1542600"/>
                <a:chExt cx="1070640" cy="360"/>
              </a:xfrm>
            </p:grpSpPr>
            <p:sp>
              <p:nvSpPr>
                <p:cNvPr id="1157" name="直接连接符 8"/>
                <p:cNvSpPr/>
                <p:nvPr/>
              </p:nvSpPr>
              <p:spPr>
                <a:xfrm>
                  <a:off x="5166360" y="154260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 txBox="1"/>
                <p:nvPr/>
              </p:nvSpPr>
              <p:spPr>
                <a:xfrm>
                  <a:off x="5166360" y="154260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5204520" y="3070080"/>
                <a:ext cx="1071000" cy="360"/>
                <a:chOff x="5204520" y="3070080"/>
                <a:chExt cx="1071000" cy="360"/>
              </a:xfrm>
            </p:grpSpPr>
            <p:sp>
              <p:nvSpPr>
                <p:cNvPr id="1160" name="直接连接符 9"/>
                <p:cNvSpPr/>
                <p:nvPr/>
              </p:nvSpPr>
              <p:spPr>
                <a:xfrm>
                  <a:off x="5204520" y="3070080"/>
                  <a:ext cx="1071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>
                  <a:off x="5204520" y="307008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组合 58395"/>
          <p:cNvGrpSpPr/>
          <p:nvPr/>
        </p:nvGrpSpPr>
        <p:grpSpPr>
          <a:xfrm>
            <a:off x="593640" y="3887640"/>
            <a:ext cx="1780920" cy="1941840"/>
            <a:chOff x="593640" y="3887640"/>
            <a:chExt cx="1780920" cy="1941840"/>
          </a:xfrm>
        </p:grpSpPr>
        <p:sp>
          <p:nvSpPr>
            <p:cNvPr id="1163" name="TextBox 18"/>
            <p:cNvSpPr/>
            <p:nvPr/>
          </p:nvSpPr>
          <p:spPr>
            <a:xfrm>
              <a:off x="593640" y="388764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30  6  7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0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1040040" y="4387320"/>
              <a:ext cx="214920" cy="214560"/>
              <a:chOff x="1040040" y="4387320"/>
              <a:chExt cx="214920" cy="214560"/>
            </a:xfrm>
          </p:grpSpPr>
          <p:sp>
            <p:nvSpPr>
              <p:cNvPr id="1165" name="直接连接符 9"/>
              <p:cNvSpPr/>
              <p:nvPr/>
            </p:nvSpPr>
            <p:spPr>
              <a:xfrm>
                <a:off x="1040040" y="4387320"/>
                <a:ext cx="21420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 txBox="1"/>
              <p:nvPr/>
            </p:nvSpPr>
            <p:spPr>
              <a:xfrm rot="16200000">
                <a:off x="1040400" y="4387320"/>
                <a:ext cx="2145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05640" y="4380840"/>
              <a:ext cx="213840" cy="214560"/>
              <a:chOff x="2105640" y="4380840"/>
              <a:chExt cx="213840" cy="214560"/>
            </a:xfrm>
          </p:grpSpPr>
          <p:sp>
            <p:nvSpPr>
              <p:cNvPr id="1168" name="直接连接符 9"/>
              <p:cNvSpPr/>
              <p:nvPr/>
            </p:nvSpPr>
            <p:spPr>
              <a:xfrm>
                <a:off x="2105640" y="438084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 txBox="1"/>
              <p:nvPr/>
            </p:nvSpPr>
            <p:spPr>
              <a:xfrm rot="16200000">
                <a:off x="2105280" y="438120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组合 58399"/>
            <p:cNvGrpSpPr/>
            <p:nvPr/>
          </p:nvGrpSpPr>
          <p:grpSpPr>
            <a:xfrm>
              <a:off x="842760" y="4248000"/>
              <a:ext cx="1531800" cy="1581480"/>
              <a:chOff x="842760" y="4248000"/>
              <a:chExt cx="1531800" cy="1581480"/>
            </a:xfrm>
          </p:grpSpPr>
          <p:sp>
            <p:nvSpPr>
              <p:cNvPr id="1171" name="弧形 6"/>
              <p:cNvSpPr/>
              <p:nvPr/>
            </p:nvSpPr>
            <p:spPr>
              <a:xfrm rot="960000">
                <a:off x="960120" y="4275000"/>
                <a:ext cx="324000" cy="90036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1289520" y="5056920"/>
                <a:ext cx="1069920" cy="360"/>
                <a:chOff x="1289520" y="5056920"/>
                <a:chExt cx="1069920" cy="360"/>
              </a:xfrm>
            </p:grpSpPr>
            <p:sp>
              <p:nvSpPr>
                <p:cNvPr id="1173" name="直接连接符 7"/>
                <p:cNvSpPr/>
                <p:nvPr/>
              </p:nvSpPr>
              <p:spPr>
                <a:xfrm>
                  <a:off x="1289520" y="505692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>
                  <a:off x="1289520" y="505692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1266840" y="4301280"/>
                <a:ext cx="1069920" cy="360"/>
                <a:chOff x="1266840" y="4301280"/>
                <a:chExt cx="1069920" cy="360"/>
              </a:xfrm>
            </p:grpSpPr>
            <p:sp>
              <p:nvSpPr>
                <p:cNvPr id="1176" name="直接连接符 8"/>
                <p:cNvSpPr/>
                <p:nvPr/>
              </p:nvSpPr>
              <p:spPr>
                <a:xfrm>
                  <a:off x="1266840" y="430128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>
                  <a:off x="1266840" y="430128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304640" y="5829120"/>
                <a:ext cx="1069920" cy="360"/>
                <a:chOff x="1304640" y="5829120"/>
                <a:chExt cx="1069920" cy="360"/>
              </a:xfrm>
            </p:grpSpPr>
            <p:sp>
              <p:nvSpPr>
                <p:cNvPr id="1179" name="直接连接符 9"/>
                <p:cNvSpPr/>
                <p:nvPr/>
              </p:nvSpPr>
              <p:spPr>
                <a:xfrm>
                  <a:off x="1304640" y="582912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>
                  <a:off x="1304640" y="582912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1" name="组合 58404"/>
          <p:cNvGrpSpPr/>
          <p:nvPr/>
        </p:nvGrpSpPr>
        <p:grpSpPr>
          <a:xfrm>
            <a:off x="4361040" y="3887640"/>
            <a:ext cx="1812240" cy="1941840"/>
            <a:chOff x="4361040" y="3887640"/>
            <a:chExt cx="1812240" cy="1941840"/>
          </a:xfrm>
        </p:grpSpPr>
        <p:sp>
          <p:nvSpPr>
            <p:cNvPr id="1182" name="TextBox 18"/>
            <p:cNvSpPr/>
            <p:nvPr/>
          </p:nvSpPr>
          <p:spPr>
            <a:xfrm>
              <a:off x="4361040" y="388764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50  9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3  0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4802040" y="4380840"/>
              <a:ext cx="213840" cy="214560"/>
              <a:chOff x="4802040" y="4380840"/>
              <a:chExt cx="213840" cy="214560"/>
            </a:xfrm>
          </p:grpSpPr>
          <p:sp>
            <p:nvSpPr>
              <p:cNvPr id="1184" name="直接连接符 9"/>
              <p:cNvSpPr/>
              <p:nvPr/>
            </p:nvSpPr>
            <p:spPr>
              <a:xfrm>
                <a:off x="4802040" y="438084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 txBox="1"/>
              <p:nvPr/>
            </p:nvSpPr>
            <p:spPr>
              <a:xfrm rot="16200000">
                <a:off x="4801680" y="438120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879520" y="4387320"/>
              <a:ext cx="214560" cy="214560"/>
              <a:chOff x="5879520" y="4387320"/>
              <a:chExt cx="214560" cy="214560"/>
            </a:xfrm>
          </p:grpSpPr>
          <p:sp>
            <p:nvSpPr>
              <p:cNvPr id="1187" name="直接连接符 9"/>
              <p:cNvSpPr/>
              <p:nvPr/>
            </p:nvSpPr>
            <p:spPr>
              <a:xfrm>
                <a:off x="5879520" y="4387320"/>
                <a:ext cx="21456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 rot="16200000">
                <a:off x="5879520" y="4387320"/>
                <a:ext cx="214560" cy="21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组合 58408"/>
            <p:cNvGrpSpPr/>
            <p:nvPr/>
          </p:nvGrpSpPr>
          <p:grpSpPr>
            <a:xfrm>
              <a:off x="4640400" y="4248000"/>
              <a:ext cx="1532880" cy="1581480"/>
              <a:chOff x="4640400" y="4248000"/>
              <a:chExt cx="1532880" cy="1581480"/>
            </a:xfrm>
          </p:grpSpPr>
          <p:sp>
            <p:nvSpPr>
              <p:cNvPr id="1190" name="弧形 6"/>
              <p:cNvSpPr/>
              <p:nvPr/>
            </p:nvSpPr>
            <p:spPr>
              <a:xfrm rot="960000">
                <a:off x="4757760" y="4275000"/>
                <a:ext cx="324000" cy="90036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5087520" y="5056920"/>
                <a:ext cx="1070640" cy="360"/>
                <a:chOff x="5087520" y="5056920"/>
                <a:chExt cx="1070640" cy="360"/>
              </a:xfrm>
            </p:grpSpPr>
            <p:sp>
              <p:nvSpPr>
                <p:cNvPr id="1192" name="直接连接符 7"/>
                <p:cNvSpPr/>
                <p:nvPr/>
              </p:nvSpPr>
              <p:spPr>
                <a:xfrm>
                  <a:off x="5087520" y="505692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 txBox="1"/>
                <p:nvPr/>
              </p:nvSpPr>
              <p:spPr>
                <a:xfrm>
                  <a:off x="5087520" y="505692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5064480" y="4301280"/>
                <a:ext cx="1070640" cy="360"/>
                <a:chOff x="5064480" y="4301280"/>
                <a:chExt cx="1070640" cy="360"/>
              </a:xfrm>
            </p:grpSpPr>
            <p:sp>
              <p:nvSpPr>
                <p:cNvPr id="1195" name="直接连接符 8"/>
                <p:cNvSpPr/>
                <p:nvPr/>
              </p:nvSpPr>
              <p:spPr>
                <a:xfrm>
                  <a:off x="5064480" y="430128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 txBox="1"/>
                <p:nvPr/>
              </p:nvSpPr>
              <p:spPr>
                <a:xfrm>
                  <a:off x="5064480" y="430128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102640" y="5829120"/>
                <a:ext cx="1070640" cy="360"/>
                <a:chOff x="5102640" y="5829120"/>
                <a:chExt cx="1070640" cy="360"/>
              </a:xfrm>
            </p:grpSpPr>
            <p:sp>
              <p:nvSpPr>
                <p:cNvPr id="1198" name="直接连接符 9"/>
                <p:cNvSpPr/>
                <p:nvPr/>
              </p:nvSpPr>
              <p:spPr>
                <a:xfrm>
                  <a:off x="5102640" y="582912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 txBox="1"/>
                <p:nvPr/>
              </p:nvSpPr>
              <p:spPr>
                <a:xfrm>
                  <a:off x="5102640" y="582912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1" name="Rectangle 64"/>
          <p:cNvSpPr/>
          <p:nvPr/>
        </p:nvSpPr>
        <p:spPr>
          <a:xfrm>
            <a:off x="530280" y="220680"/>
            <a:ext cx="2340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F56-96D9-4A9D-966E-BBD124564C8F}" type="datetime">
              <a:rPr b="0" lang="zh-CN" sz="1200" spc="-1" strike="noStrike">
                <a:solidFill>
                  <a:srgbClr val="898989"/>
                </a:solidFill>
                <a:latin typeface="Cambria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5"/>
          <p:cNvSpPr/>
          <p:nvPr/>
        </p:nvSpPr>
        <p:spPr>
          <a:xfrm>
            <a:off x="57168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在（     ）里填上适当的数，使计算简便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0  ÷  45=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450  ÷  18=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  ÷  15=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210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  4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4" name="直接箭头连接符 9"/>
          <p:cNvCxnSpPr/>
          <p:nvPr/>
        </p:nvCxnSpPr>
        <p:spPr>
          <a:xfrm flipH="1">
            <a:off x="228564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15" name="TextBox 10"/>
          <p:cNvSpPr/>
          <p:nvPr/>
        </p:nvSpPr>
        <p:spPr>
          <a:xfrm>
            <a:off x="221472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6" name="直接箭头连接符 14"/>
          <p:cNvCxnSpPr/>
          <p:nvPr/>
        </p:nvCxnSpPr>
        <p:spPr>
          <a:xfrm flipH="1">
            <a:off x="114120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17" name="TextBox 15"/>
          <p:cNvSpPr/>
          <p:nvPr/>
        </p:nvSpPr>
        <p:spPr>
          <a:xfrm>
            <a:off x="104940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16"/>
          <p:cNvSpPr/>
          <p:nvPr/>
        </p:nvSpPr>
        <p:spPr>
          <a:xfrm>
            <a:off x="114300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85880" y="2855880"/>
            <a:ext cx="785880" cy="1800"/>
            <a:chOff x="785880" y="2855880"/>
            <a:chExt cx="785880" cy="1800"/>
          </a:xfrm>
        </p:grpSpPr>
        <p:sp>
          <p:nvSpPr>
            <p:cNvPr id="1220" name="直接连接符 18"/>
            <p:cNvSpPr/>
            <p:nvPr/>
          </p:nvSpPr>
          <p:spPr>
            <a:xfrm>
              <a:off x="785880" y="2855880"/>
              <a:ext cx="78588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 txBox="1"/>
            <p:nvPr/>
          </p:nvSpPr>
          <p:spPr>
            <a:xfrm>
              <a:off x="785880" y="2855880"/>
              <a:ext cx="785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TextBox 19"/>
          <p:cNvSpPr/>
          <p:nvPr/>
        </p:nvSpPr>
        <p:spPr>
          <a:xfrm>
            <a:off x="1612800" y="239076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  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3" name="直接箭头连接符 27"/>
          <p:cNvCxnSpPr/>
          <p:nvPr/>
        </p:nvCxnSpPr>
        <p:spPr>
          <a:xfrm flipH="1">
            <a:off x="571464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24" name="TextBox 28"/>
          <p:cNvSpPr/>
          <p:nvPr/>
        </p:nvSpPr>
        <p:spPr>
          <a:xfrm>
            <a:off x="564372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5" name="直接箭头连接符 29"/>
          <p:cNvCxnSpPr/>
          <p:nvPr/>
        </p:nvCxnSpPr>
        <p:spPr>
          <a:xfrm flipH="1">
            <a:off x="457020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26" name="TextBox 30"/>
          <p:cNvSpPr/>
          <p:nvPr/>
        </p:nvSpPr>
        <p:spPr>
          <a:xfrm>
            <a:off x="4451400" y="181944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457200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4214880" y="2855880"/>
            <a:ext cx="785880" cy="1800"/>
            <a:chOff x="4214880" y="2855880"/>
            <a:chExt cx="785880" cy="1800"/>
          </a:xfrm>
        </p:grpSpPr>
        <p:sp>
          <p:nvSpPr>
            <p:cNvPr id="1229" name="直接连接符 32"/>
            <p:cNvSpPr/>
            <p:nvPr/>
          </p:nvSpPr>
          <p:spPr>
            <a:xfrm>
              <a:off x="4214880" y="2855880"/>
              <a:ext cx="78588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4214880" y="2855880"/>
              <a:ext cx="785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TextBox 33"/>
          <p:cNvSpPr/>
          <p:nvPr/>
        </p:nvSpPr>
        <p:spPr>
          <a:xfrm>
            <a:off x="5041800" y="239076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 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2" name="直接箭头连接符 34"/>
          <p:cNvCxnSpPr/>
          <p:nvPr/>
        </p:nvCxnSpPr>
        <p:spPr>
          <a:xfrm flipH="1">
            <a:off x="228564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33" name="TextBox 35"/>
          <p:cNvSpPr/>
          <p:nvPr/>
        </p:nvSpPr>
        <p:spPr>
          <a:xfrm>
            <a:off x="2214720" y="41432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4" name="直接箭头连接符 36"/>
          <p:cNvCxnSpPr/>
          <p:nvPr/>
        </p:nvCxnSpPr>
        <p:spPr>
          <a:xfrm flipH="1">
            <a:off x="114120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35" name="TextBox 37"/>
          <p:cNvSpPr/>
          <p:nvPr/>
        </p:nvSpPr>
        <p:spPr>
          <a:xfrm>
            <a:off x="1049400" y="4143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38"/>
          <p:cNvSpPr/>
          <p:nvPr/>
        </p:nvSpPr>
        <p:spPr>
          <a:xfrm>
            <a:off x="1143000" y="4143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857160" y="5143680"/>
            <a:ext cx="785880" cy="360"/>
            <a:chOff x="857160" y="5143680"/>
            <a:chExt cx="785880" cy="360"/>
          </a:xfrm>
        </p:grpSpPr>
        <p:sp>
          <p:nvSpPr>
            <p:cNvPr id="1238" name="直接连接符 39"/>
            <p:cNvSpPr/>
            <p:nvPr/>
          </p:nvSpPr>
          <p:spPr>
            <a:xfrm>
              <a:off x="85716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85716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Box 40"/>
          <p:cNvSpPr/>
          <p:nvPr/>
        </p:nvSpPr>
        <p:spPr>
          <a:xfrm>
            <a:off x="1612800" y="471492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直接箭头连接符 41"/>
          <p:cNvCxnSpPr/>
          <p:nvPr/>
        </p:nvCxnSpPr>
        <p:spPr>
          <a:xfrm flipH="1">
            <a:off x="571464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42" name="TextBox 42"/>
          <p:cNvSpPr/>
          <p:nvPr/>
        </p:nvSpPr>
        <p:spPr>
          <a:xfrm>
            <a:off x="5643720" y="41432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3" name="直接箭头连接符 43"/>
          <p:cNvCxnSpPr/>
          <p:nvPr/>
        </p:nvCxnSpPr>
        <p:spPr>
          <a:xfrm flipH="1">
            <a:off x="457020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44" name="TextBox 44"/>
          <p:cNvSpPr/>
          <p:nvPr/>
        </p:nvSpPr>
        <p:spPr>
          <a:xfrm>
            <a:off x="4451400" y="414324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5"/>
          <p:cNvSpPr/>
          <p:nvPr/>
        </p:nvSpPr>
        <p:spPr>
          <a:xfrm>
            <a:off x="4572000" y="4143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214880" y="5143680"/>
            <a:ext cx="785880" cy="360"/>
            <a:chOff x="4214880" y="5143680"/>
            <a:chExt cx="785880" cy="360"/>
          </a:xfrm>
        </p:grpSpPr>
        <p:sp>
          <p:nvSpPr>
            <p:cNvPr id="1247" name="直接连接符 46"/>
            <p:cNvSpPr/>
            <p:nvPr/>
          </p:nvSpPr>
          <p:spPr>
            <a:xfrm>
              <a:off x="421488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 txBox="1"/>
            <p:nvPr/>
          </p:nvSpPr>
          <p:spPr>
            <a:xfrm>
              <a:off x="421488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TextBox 47"/>
          <p:cNvSpPr/>
          <p:nvPr/>
        </p:nvSpPr>
        <p:spPr>
          <a:xfrm>
            <a:off x="5041800" y="4714920"/>
            <a:ext cx="53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2000160" y="5143680"/>
            <a:ext cx="785880" cy="360"/>
            <a:chOff x="2000160" y="5143680"/>
            <a:chExt cx="785880" cy="360"/>
          </a:xfrm>
        </p:grpSpPr>
        <p:sp>
          <p:nvSpPr>
            <p:cNvPr id="1251" name="直接连接符 48"/>
            <p:cNvSpPr/>
            <p:nvPr/>
          </p:nvSpPr>
          <p:spPr>
            <a:xfrm>
              <a:off x="200016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 txBox="1"/>
            <p:nvPr/>
          </p:nvSpPr>
          <p:spPr>
            <a:xfrm>
              <a:off x="200016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5429160" y="5143680"/>
            <a:ext cx="785880" cy="360"/>
            <a:chOff x="5429160" y="5143680"/>
            <a:chExt cx="785880" cy="360"/>
          </a:xfrm>
        </p:grpSpPr>
        <p:sp>
          <p:nvSpPr>
            <p:cNvPr id="1254" name="直接连接符 49"/>
            <p:cNvSpPr/>
            <p:nvPr/>
          </p:nvSpPr>
          <p:spPr>
            <a:xfrm>
              <a:off x="542916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 txBox="1"/>
            <p:nvPr/>
          </p:nvSpPr>
          <p:spPr>
            <a:xfrm>
              <a:off x="542916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Box 50"/>
          <p:cNvSpPr/>
          <p:nvPr/>
        </p:nvSpPr>
        <p:spPr>
          <a:xfrm>
            <a:off x="5786280" y="4143240"/>
            <a:ext cx="7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346480" y="4132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Box 28"/>
          <p:cNvSpPr/>
          <p:nvPr/>
        </p:nvSpPr>
        <p:spPr>
          <a:xfrm>
            <a:off x="1596960" y="180828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28"/>
          <p:cNvSpPr/>
          <p:nvPr/>
        </p:nvSpPr>
        <p:spPr>
          <a:xfrm>
            <a:off x="785880" y="2428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60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28"/>
          <p:cNvSpPr/>
          <p:nvPr/>
        </p:nvSpPr>
        <p:spPr>
          <a:xfrm>
            <a:off x="2625840" y="151596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28"/>
          <p:cNvSpPr/>
          <p:nvPr/>
        </p:nvSpPr>
        <p:spPr>
          <a:xfrm>
            <a:off x="5072040" y="1857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28"/>
          <p:cNvSpPr/>
          <p:nvPr/>
        </p:nvSpPr>
        <p:spPr>
          <a:xfrm>
            <a:off x="4286160" y="2428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28"/>
          <p:cNvSpPr/>
          <p:nvPr/>
        </p:nvSpPr>
        <p:spPr>
          <a:xfrm>
            <a:off x="5977080" y="15001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28"/>
          <p:cNvSpPr/>
          <p:nvPr/>
        </p:nvSpPr>
        <p:spPr>
          <a:xfrm>
            <a:off x="164304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28"/>
          <p:cNvSpPr/>
          <p:nvPr/>
        </p:nvSpPr>
        <p:spPr>
          <a:xfrm>
            <a:off x="93816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4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28"/>
          <p:cNvSpPr/>
          <p:nvPr/>
        </p:nvSpPr>
        <p:spPr>
          <a:xfrm>
            <a:off x="2593800" y="3808440"/>
            <a:ext cx="357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28"/>
          <p:cNvSpPr/>
          <p:nvPr/>
        </p:nvSpPr>
        <p:spPr>
          <a:xfrm>
            <a:off x="278604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Box 28"/>
          <p:cNvSpPr/>
          <p:nvPr/>
        </p:nvSpPr>
        <p:spPr>
          <a:xfrm>
            <a:off x="207180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28"/>
          <p:cNvSpPr/>
          <p:nvPr/>
        </p:nvSpPr>
        <p:spPr>
          <a:xfrm>
            <a:off x="506268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28"/>
          <p:cNvSpPr/>
          <p:nvPr/>
        </p:nvSpPr>
        <p:spPr>
          <a:xfrm>
            <a:off x="435780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28"/>
          <p:cNvSpPr/>
          <p:nvPr/>
        </p:nvSpPr>
        <p:spPr>
          <a:xfrm>
            <a:off x="5832360" y="381168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Box 28"/>
          <p:cNvSpPr/>
          <p:nvPr/>
        </p:nvSpPr>
        <p:spPr>
          <a:xfrm>
            <a:off x="620568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28"/>
          <p:cNvSpPr/>
          <p:nvPr/>
        </p:nvSpPr>
        <p:spPr>
          <a:xfrm>
            <a:off x="549108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7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7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32"/>
          <p:cNvSpPr/>
          <p:nvPr/>
        </p:nvSpPr>
        <p:spPr>
          <a:xfrm>
            <a:off x="206280" y="673200"/>
            <a:ext cx="8448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根据商的不变的规律，计算被除数和除数末尾都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除法会更简便，可以把被除数和除数末尾都去掉相同个数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商不变，但余数发生变化，去掉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余数的末尾就添上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计算除法时，有时利用商不变的性质会使计算更简便。当除数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，被除数和除数同时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；当除数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，被除数和除数同时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这时除数就变成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计算就简便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8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9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8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1"/>
          <p:cNvSpPr/>
          <p:nvPr/>
        </p:nvSpPr>
        <p:spPr>
          <a:xfrm>
            <a:off x="349200" y="766800"/>
            <a:ext cx="875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 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（    ）倍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 370÷3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试商时，把除数看作（      ）试商，商的最高位是（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）里最大能填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×(    ) &lt; 200    90×(    ) &lt; 640     80×(    ) &lt; 500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3"/>
          <p:cNvSpPr/>
          <p:nvPr/>
        </p:nvSpPr>
        <p:spPr>
          <a:xfrm>
            <a:off x="1601640" y="1347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"/>
          <p:cNvSpPr/>
          <p:nvPr/>
        </p:nvSpPr>
        <p:spPr>
          <a:xfrm>
            <a:off x="4973760" y="13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4"/>
          <p:cNvSpPr/>
          <p:nvPr/>
        </p:nvSpPr>
        <p:spPr>
          <a:xfrm>
            <a:off x="4408560" y="17985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6"/>
          <p:cNvSpPr/>
          <p:nvPr/>
        </p:nvSpPr>
        <p:spPr>
          <a:xfrm>
            <a:off x="7940520" y="180972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7"/>
          <p:cNvSpPr/>
          <p:nvPr/>
        </p:nvSpPr>
        <p:spPr>
          <a:xfrm>
            <a:off x="1536840" y="2714760"/>
            <a:ext cx="3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8"/>
          <p:cNvSpPr/>
          <p:nvPr/>
        </p:nvSpPr>
        <p:spPr>
          <a:xfrm>
            <a:off x="4089240" y="2725560"/>
            <a:ext cx="3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9"/>
          <p:cNvSpPr/>
          <p:nvPr/>
        </p:nvSpPr>
        <p:spPr>
          <a:xfrm>
            <a:off x="6743880" y="2735280"/>
            <a:ext cx="3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18Z</dcterms:modified>
  <cp:revision>2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